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9EA1-68C0-4742-90C5-679CF4511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191A-E6EF-4966-9BAE-6A13EDEAD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486C-B55A-4367-9AC9-16255AE95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909F-41E8-4776-88DA-85695BB41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F5DF-958A-4164-B576-6ACC185ABCE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052F-C708-4149-9D07-17791BEFB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A24-2B5B-4D93-A10D-B685F94C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D83-D37A-4CE1-9883-CCA23507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E9C3-FAA2-4DD7-9326-809E411C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26F6-0206-407F-8521-2924ED0C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6CF5-DE9C-419E-ABD3-6A616092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175C-C3BA-4978-AEBA-8EAB0387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12C-08F5-4429-B3B2-F4308012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4373-C18B-457D-8BFB-9AD68420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C62D-E111-41AD-B23E-E9929000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2604-A862-4604-92E5-91937F14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D5B-4747-4F05-ACE8-7CA7A6B8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3C76-3F97-4435-9986-4EE65BD4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866E-099E-4C52-906B-A6AA5A11E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икаци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оменклатура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</a:t>
            </a:r>
            <a:br>
              <a:rPr sz="3600"/>
            </a:b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коришћења лекова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1 Увод у фармацеутску праксу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Ц класифик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Ц класификација  развијена од стране скандинавских научника 60-тих година прошлог ве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Ц класификација је </a:t>
            </a: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међународни стандард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лфанумеричког је типа и има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 ниво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- главна анатомска груп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- терапијска подгруп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- фармаколошка подгруп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- хемијска подгрупа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- хемијска супстанц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79280" y="428400"/>
            <a:ext cx="8507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и анатомски нивои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разврстани у </a:t>
            </a:r>
            <a:r>
              <a:rPr b="1" lang="sr-CS" sz="22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14 главних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група према системима органа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о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игестивни тракт и метаболиз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рв и крвотворни орган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ардиоваскуларни систе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ерматолошки леков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енитоуринарни систем и полни хормо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истемски хормони без полних хормона и инсули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нтиинфективни лекови за системску примен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нтинеопластици и имуномодулирајући леков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ишићно-скелетни сист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рвни сист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нтипаразитарни производи, инсектициди и репелен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еспираторни сист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чулни орга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та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диоваскуларни систем 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 анатомска груп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C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01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 срца 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ска подгруп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јални гликозиди 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шка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руп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А</a:t>
            </a:r>
            <a:r>
              <a:rPr b="1" lang="sr-CS" sz="3200" spc="-1" strike="noStrike">
                <a:solidFill>
                  <a:srgbClr val="000092"/>
                </a:solidFill>
                <a:latin typeface="Times New Roman"/>
                <a:ea typeface="Times New Roman"/>
              </a:rPr>
              <a:t>А</a:t>
            </a:r>
            <a:r>
              <a:rPr b="1" lang="sr-CS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зиди дигиталиса 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подгруп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АА</a:t>
            </a:r>
            <a:r>
              <a:rPr b="1" lang="sr-C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05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оксин 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супстанц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Ц класификација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Ц шифра је </a:t>
            </a:r>
            <a:r>
              <a:rPr b="0" lang="sr-C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опредељена системом органа, односно терапијском индикацијо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лек користи за лечење сасвим различитих болести, мора имати посебан код за свако фармакотерапијско подруч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</a:t>
            </a:r>
            <a:r>
              <a:rPr b="0" lang="sr-C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метронидазо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нтипаразитни ле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 – антибиоти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ерматолошки препа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инеколошки препа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 АТЦ/ДДД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е прописивања лекова (потрошњ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становника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болесничких дан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ника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годину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нтибиотици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е нежељених дејстава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ф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ацеутски маркетин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аторни посл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цијалне листе леков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вне набавк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нклатура леков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ње лекова именом јесте саставни део развоја сваког л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ом леку се током развоја додељују најмање три имен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ијс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ичко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ћено име л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нклатура лекова – хемијско име л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552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 име лека јесте име које означава хемијску структуру л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ељује се у најранијим фазама развоја лека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народне уније за чисту и примењену хемију (енг. International Union of Pure and Applied Chemistry (IUPAC)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 име лека је универзално, али је комплексно и није погодно за свакодневну приме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нклатура лекова – генеричко име л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ичко или официнално име лека јесте име лека које додељује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ертски ти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З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 је званичних монографија лекова у фармакопеј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литератури се означава и ка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народно незаштићено име (eng. International Nonproprietary Names (IN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ствени и универзални ниво у номенклатури лек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ућава здравственим стручњацима једноставну идентификацију фармацеутске активне супстанце, безбедно прописивање и издавање лекова и размену стручних и научних информација које се односе на леко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нклатура лекова – генеричко име л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овог нивоа номенклатуре лекова подлеже законским и научним принцип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fix-infix-stem”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11280" y="2629080"/>
          <a:ext cx="7777080" cy="3968640"/>
        </p:xfrm>
        <a:graphic>
          <a:graphicData uri="http://schemas.openxmlformats.org/drawingml/2006/table">
            <a:tbl>
              <a:tblPr/>
              <a:tblGrid>
                <a:gridCol w="2592360"/>
                <a:gridCol w="2592360"/>
                <a:gridCol w="2592360"/>
              </a:tblGrid>
              <a:tr h="61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 ГРУПА ЛЕ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az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микотиц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токоназол, миконазол, клотримазол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alol/-ilol/-ol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ови који блокирају бета рецепто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ранолол, бисопролол, карведилол..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azepam/-azol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сиолитиц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разепам, бромазепам, алпразолам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praz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хибитори протонске пумп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нтопразол, омепразол, есомепразол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нклатура лекова – заштићено име л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лни ниво номенклатуре лек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иштво је компаније која тај лек региструје и дистрибуи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заштићено име лека стоји ознака ® (eng. registered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ствено на тржишту, кратко, једноставно за памћење и изгов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 садржати промотивни тон, нити упућивати на посебност и супериорност ле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вање културолошких апеката средина у којима је планирано да се лек регистру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цификација 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фикација  (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t.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рставање на класе или групе, подела појма према задатом критеријуму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се класификују на више различитих ниво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коришћења лекова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 коришћења леко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 коришћења лекова (</a:t>
            </a:r>
            <a:r>
              <a:rPr b="1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.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utilization research</a:t>
            </a:r>
            <a:r>
              <a:rPr b="1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rketing, distribution, prescription, and use of drugs in a society, with special emphasis on the resulting medical, social and economic consequences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7. године</a:t>
            </a:r>
            <a:r>
              <a:rPr b="0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</a:t>
            </a:r>
            <a:r>
              <a:rPr b="0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демиологија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 која проучава дистрибуције и одлике здравствених стања и догађаја унутар опште популације, као и примену ових сазнања у циљу контроле здравственог стања популације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е принципе епидемиологије примарно на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учавање клиничке употребе лекова у општој популациј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рне дефиниције фармакоепидемиологије истичу њен значај као науке која "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учава употребу и ефекте/нежељене ефекте лекова у великом броју пацијената а са циљем рационалније, ефикасније али и исплативије употребе лекова и унапређењу исхода лечењ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 коришћења леко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 јесте орјентисана примарно ка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ЕКОВИМ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јући безбедност и ефикасност појединачних лекова или група лекова или ка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ТРОШЊИ ЛЕКО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циљу унапређивања квалитета примене лекова употребом педагошких (едукативних) интервенција међу здравственим професионалцим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коришћење лекова могу бит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КРИПТИВ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имају за циљ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опишу схеме употребе лекова и да идентификују проблеме везане за употребу и потрошњу леков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 коришћења леко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КЕ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коришћење лекова успостављају везу између података о </a:t>
            </a:r>
            <a:r>
              <a:rPr b="0" i="1" lang="sr-RS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ТРОШЊИ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 и података о </a:t>
            </a:r>
            <a:r>
              <a:rPr b="0" i="1" lang="sr-RS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РБИДИТЕТУ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RS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ХОДИМА ЛЕЧЕЊА И КВАЛИТЕТУ НЕГЕ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јединственим циљем утврђивања </a:t>
            </a:r>
            <a:r>
              <a:rPr b="1" lang="sr-RS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а ли је </a:t>
            </a:r>
            <a:r>
              <a:rPr b="1" i="1" lang="sr-RS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ТРОШЊА </a:t>
            </a:r>
            <a:r>
              <a:rPr b="1" lang="sr-RS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лекова </a:t>
            </a:r>
            <a:r>
              <a:rPr b="1" i="1" lang="sr-RS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ЦИОНАЛНА (ОПРВАДАНА) </a:t>
            </a:r>
            <a:r>
              <a:rPr b="1" lang="sr-RS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ли</a:t>
            </a:r>
            <a:r>
              <a:rPr b="1" i="1" lang="sr-RS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НЕ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кав тип студија при дизајнирању може бити усмерен на  </a:t>
            </a:r>
            <a:r>
              <a:rPr b="1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днос доза-ефекат/ концентрација-ефекат), </a:t>
            </a:r>
            <a:r>
              <a:rPr b="1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А 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дикатори квалитета прописивања лекова)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А 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дабир лека, дозе, усклађеност прописивања са индивидуалним одликама пацијената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 коришћења леко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коришћења лекова – заузимају централно место у фармакоепидемиологији с обзиром да описују </a:t>
            </a:r>
            <a:r>
              <a:rPr b="1" i="1" lang="sr-RS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ИМ, ПРИРОДУ и ДЕТЕРМИНАНТЕ </a:t>
            </a:r>
            <a:r>
              <a:rPr b="1" lang="sr-RS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лагања лековима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коришћења лекова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ермин 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 модерном добу блискији, сличнији него раније – резултати студија коришћења лекова пружају увид у податке који се односе махом на лекове, (приказ података из региостара великопродаја и слично), док фармакоепидемиологија дефинише популацију у којима се лек примењује  у смислу инциденције, преваленције...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 коришћења леко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коришћење лекова и фармакоепидемиологије обезбеђују увид 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АЦ, СХЕМУ примене леков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м и начин примене лекова, тренд примене лекова, али и трошкове примене исти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ЕТ УПОТРЕБЕ ЛЕКОВ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 "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-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или ревизија  стварне потрошње лекова и поређења са важећим регулативама и водичима примене лекова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варује се  употребом индекса који се односе на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БИР ЛЕ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а ли је прописана терапија усклађена са предложеним алгоритмима употребе истих)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Е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 лека (усклађеност са одабиром најисплативијих тераписјких процедура)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У ЛЕ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териндивидуалне разлике по питању доза, године/доза..)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Е ЛЕКОВА и НЕЖЕЉЕНА ДЕЈСТВА ЛЕКОВА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 ПОПУЛАЦИЈЕ ПАЦИЈЕНАТ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у су упућени у однос корист/ризик примене лекова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ЛАТИВОС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мене лекова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 "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-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или ревизија је дефинисана 1976. године (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ok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ао својеврсни преглед начина употребе лекова у клиничкој пракси кроз временске интервале, како би се усвојили адекватни принципи прописивања леко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 коришћења леко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643284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вавање потрошње лек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ошња лекова се стандардно рачуна у дефинисаним дневним дозама (DDD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DDD на 100 болесничких дана (у болничким условима) или као број DDD на 1000 становника (у друштвеној заједници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сана дневна доза представља меру потрошње лекова и осликава најчешће прописивану дневну дозу датог ле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58560" y="1628640"/>
            <a:ext cx="8677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ирати укупну количину потрошеног лека за  наведени период, у природним јединиц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дену количину у природним јединицама заменити ДД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ошену количину ДДД-а изразити на 100 болесничких дана, или на број станов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одредити потрошњу леков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цификација 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пеји важи следећа класификациј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пореклу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роге, хемијски препарати,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енски препарати, готови лекови, серуми, вакцин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према јачини и начини чув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dia claudenda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nda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ojne droge, RA lekovi, trigonici, OTC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 ДДД сваког лека се може наћ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сајту Светске Здравствене Организациј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whocc.no/atc_ddd_index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 лекова које финансира РЗЗО ,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rzzo.rs/index.php/lekovi-actual/pretraga-liste-leko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у фармакотерапијском приручни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за вежб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интерном од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ењу је потрошено 500 кутиј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ка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апамила (Verapamil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30 таблета х 4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ATC C08DA01).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аведени период било је 1000 пацијената кој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у болници били по 14 да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шћењем интернет ресурса пронаћи вредонст ДДД за наведени л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потрошњу верапамила за наведени пери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х 40  = 120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(za jednu kutiju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tija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 120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00 00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D(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whocc.no/atc_ddd_index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0,24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 00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240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g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50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Х 14 = 1400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000 /100 = 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0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D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7,857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DD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/100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икациони системи лек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користе 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им истраживања (праћење употребе и потрошње леков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 фармацеутског маркентин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ој регулати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икациони системи лек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заступљени класификацио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КЛ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асификац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рбији)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Ц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асификациј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ствена класификација лекова (ЈКЛ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је донета крајем 1980-их од стране тадашњих регулаторних те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КЛ класификација је </a:t>
            </a:r>
            <a:r>
              <a:rPr b="1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нумеричког тип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о да се помоћу њега </a:t>
            </a: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може идентификовати појединачни фармацеутски препарат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 лек, у различитим фармацеутским формулацијама или ако је произведен у различитим фабрикама има различите ЈКЛ кодо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ЈКЛ класификација -</a:t>
            </a:r>
            <a:r>
              <a:rPr b="0" lang="sr-C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шифра = 7 арапских бројева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Први број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армацеутски облик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0 = ампуле,ампуле бочице, депо ампуле, лио бочице, инфузијски раств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 = дражеје, капсуле, лингвалете, пастиле, таблете, шумеће табле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 = солуције и капи за оралну примену, оралне амуле, кесиц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3 = гранулат, прашак, сиру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= гел, крема, маст, раствор за спољашњу употребу, пен, поси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5 = супозитори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6 = глобуле, вагиналете, сти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7 = аеросол, капи за екстерну примену, лосион, спреј, прашак за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улфирањ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8 = чајев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9 = остал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Друга два броја</a:t>
            </a:r>
            <a:r>
              <a:rPr b="1" lang="sr-C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фармаколошк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груп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Четврти број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армаколошк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подгруп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Пети, шести и седми број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дивидуални број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ви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аког</a:t>
            </a: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ковања,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лика, концентрације и произвођача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товог л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ЈКЛ сви лекови су распоређени у основних </a:t>
            </a:r>
            <a:r>
              <a:rPr b="1" lang="sr-CS" sz="20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19</a:t>
            </a:r>
            <a:r>
              <a:rPr b="1" lang="sr-C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терапијско-фармаколошких група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д којих свака </a:t>
            </a:r>
            <a:r>
              <a:rPr b="1" lang="sr-C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има до 10 подгрупа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 = вакцине, серуми и имуноглобули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 и 32 = антимикробни лекови за системску припре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 = лекови за неоплаз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 и 34 = лекови за ендокрине бол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 = лекови за болести метаболизма и исхра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 = лекови за болести крви и крвотворних орг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 = лекови за душевне болести и поремећа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 = лекови за болести нервног систе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 = лекови за болести ока и ух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и 40 = лекови за болести КВ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= лекови за болести респираторног систе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= лекови за болести дигестивног систе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= лекови за болести урогениталног систе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= лекови који се користе у трудноћи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= лекови за болести коже и поткожног тки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= лекови за болести мишића, костију и везивног тки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= лекови за замену крви и парентералну исхран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= антидоти и антагони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 = дијагностици и контрасна сред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sr-Latn-C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Zoming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®</a:t>
            </a:r>
            <a:r>
              <a:rPr b="1" lang="sr-Latn-C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(zolmitriptan), AstraZen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 08 6 72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bl. 3 po 2.5 m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е (фармацеутски облик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</a:t>
            </a:r>
            <a:r>
              <a:rPr b="1" lang="sr-C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08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који делују на нервни систем (фармакодинамска  груп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r-C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6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ркотички аналгетици (фармакодинaмијскa подруп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        </a:t>
            </a:r>
            <a:r>
              <a:rPr b="1" lang="sr-C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72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ни бро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 да шифру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КЛ: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8 6 720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m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е, 3 са по 2.5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митриптана, производђача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raZenec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се користе код аkутнoг напaдa мигрен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3T12:04:13Z</dcterms:created>
  <dc:creator>Author</dc:creator>
  <dc:description/>
  <dc:language>en-US</dc:language>
  <cp:lastModifiedBy>Marina Kostic</cp:lastModifiedBy>
  <dcterms:modified xsi:type="dcterms:W3CDTF">2023-09-11T10:10:42Z</dcterms:modified>
  <cp:revision>25</cp:revision>
  <dc:subject/>
  <dc:title>Интегрисане академске студије фармације  Класификације лекова: АТЦ класификација  Студије коришћења лекова</dc:title>
</cp:coreProperties>
</file>